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391B-3FAF-4463-B50B-FD344185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9E70-5A0A-41B9-8FA0-4E55C748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A57-96B7-4CCB-8498-19D2BFF9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7629-7408-4753-953D-BD988732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953-4EB2-4018-81D7-733A978B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818E-4911-4C5F-B19D-EF3675EF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E86-C208-4F01-B786-98D76DCA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D6BF-82AE-49BE-8CE8-17C30902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9AA-5B48-4C46-96F8-C939EEDD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5E5-A515-4C54-805D-E8474D75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02E3-57AF-4CD6-B622-2BC1AD35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EA5-E7B1-4CD7-A401-843D7D3A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B4FB-31E9-4831-B79A-272F3A983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thics.state.tx.us/images/links/judge.gif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images.google.com/imgres?imgurl=http://bbsnews.net/images/saxby.jpg&amp;imgrefurl=http://bbsnews.net/bw2003-07-25.html&amp;h=502&amp;w=396&amp;sz=14&amp;hl=en&amp;start=4&amp;sig2=ZG14mOWdg-wYRf_alQcUhg&amp;um=1&amp;tbnid=Wt4DFRi-JV9lKM:&amp;tbnh=130&amp;tbnw=103&amp;ei=Vy7PR6vyBpeMigHuialu&amp;prev=/images%3Fq%3Dsaxby%2Bchambliss%26um%3D1%26hl%3Den%26rls%3Dcom.microsoft:*:IE-SearchBox%26rlz%3D1I7DKUS%26sa%3DX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581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The United States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Three Bra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00200" y="685800"/>
            <a:ext cx="66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The Legislativ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Bran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639040" cy="3124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5272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59160" y="211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685800"/>
            <a:ext cx="3733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Garamond"/>
              </a:rPr>
              <a:t>The legislative branch is made up of the two houses of Congress- the Senate and the House of Representati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52880" y="914400"/>
            <a:ext cx="335304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3124080" cy="2362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272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7400" y="3733920"/>
            <a:ext cx="4381560" cy="3003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8600" y="228600"/>
            <a:ext cx="861048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Garamond"/>
              </a:rPr>
              <a:t>The most important duty of the legislative branch is to make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Garamond"/>
              </a:rPr>
              <a:t>There are 100 senators in the senate, two from each st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Garamond"/>
              </a:rPr>
              <a:t>There are 435 representatives in the House of Representatives.  The number of representatives is based on each state’s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Way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e head of the country, like the executive of a busin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ident of the United States. So, just remember that the President is like an executive of a company and that he is in charge of the executive bra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makes up the judicial bran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ges. And judges and judicial both begin with “Ju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is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important job of this branch is to make laws. And laws and legislative both start with “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8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98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98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98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98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98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98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The three branches of government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aramond"/>
              </a:rPr>
              <a:t>Executive- President, Vice President, Cabinet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Judicial- Supreme Court System,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Legislative- Senate, House of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branches each have 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Executiv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: enforces laws, makes sure people obey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Judicial: reviews and explains the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aramond"/>
              </a:rPr>
              <a:t>Legislativ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: makes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branch do I work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 am the President of the United State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ecu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day long I make laws…more and more law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egis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my jobs is make sure people obey the laws. In other words, I enforce law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781680" y="1371600"/>
            <a:ext cx="83844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400800" y="2819520"/>
            <a:ext cx="175248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248520" y="4495680"/>
            <a:ext cx="1752480" cy="1447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branch do I work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day, I looked at two laws and reviewed them. I decided they were constitutional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ud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y name is Saxby Chambliss. I am one of the senators from Georgia.”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egisl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job is the Chief Justice of the Supreme Court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371600"/>
            <a:ext cx="157500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248520" y="4800600"/>
            <a:ext cx="1218960" cy="1523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00800" y="3200400"/>
            <a:ext cx="981000" cy="1238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98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98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8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Three Branches of Government Hanger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ach pair of students should have one ba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ach bag contains enough supplies for everyone to make their own han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ach person should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 cla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 long piece of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 medium pieces of paper (red, white, b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 yellow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  h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tick of glue to share with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Get your large piece of paper and write “Three Branches of Government” o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Use your clasps to clasp it to your han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ow get your medium pieces of paper and write “Executive” on one, “Legislative” on the other, and “Judicial” on the last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onnect these to the bottom of the hanger, using your clas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ow write the items on the sheet on each of your st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en match the stars to the correct branch and glue the stars on the piece of paper with the correct branch o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ork with your partner to make sure you match the stars to the correct bra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Look at the summary if you n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523880"/>
            <a:ext cx="40384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Garamond"/>
              </a:rPr>
              <a:t>What has three branches but no tre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Garamond"/>
              </a:rPr>
              <a:t>The branches of gover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77120" y="838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Execu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05720" y="541008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Legis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320040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Jud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2210040" cy="1600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705720" y="25909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419720" y="4876920"/>
            <a:ext cx="220968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743200" y="2133720"/>
            <a:ext cx="1523880" cy="1676160"/>
          </a:xfrm>
          <a:prstGeom prst="irregularSeal1">
            <a:avLst/>
          </a:prstGeom>
          <a:solidFill>
            <a:srgbClr val="e3e7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1371600"/>
            <a:ext cx="1523880" cy="1676520"/>
          </a:xfrm>
          <a:prstGeom prst="irregularSeal1">
            <a:avLst/>
          </a:prstGeom>
          <a:solidFill>
            <a:srgbClr val="e3e7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re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1600200"/>
            <a:ext cx="1524240" cy="1676520"/>
          </a:xfrm>
          <a:prstGeom prst="irregularSeal1">
            <a:avLst/>
          </a:prstGeom>
          <a:solidFill>
            <a:srgbClr val="e3e7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752480"/>
            <a:ext cx="1523880" cy="1676520"/>
          </a:xfrm>
          <a:prstGeom prst="irregularSeal1">
            <a:avLst/>
          </a:prstGeom>
          <a:solidFill>
            <a:srgbClr val="e3e7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3886200"/>
            <a:ext cx="1524240" cy="1676520"/>
          </a:xfrm>
          <a:prstGeom prst="irregularSeal1">
            <a:avLst/>
          </a:prstGeom>
          <a:solidFill>
            <a:srgbClr val="e3e7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3657600"/>
            <a:ext cx="1524240" cy="1676520"/>
          </a:xfrm>
          <a:prstGeom prst="irregularSeal1">
            <a:avLst/>
          </a:prstGeom>
          <a:solidFill>
            <a:srgbClr val="e3e7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e 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4114800"/>
            <a:ext cx="1524240" cy="1676520"/>
          </a:xfrm>
          <a:prstGeom prst="irregularSeal1">
            <a:avLst/>
          </a:prstGeom>
          <a:solidFill>
            <a:srgbClr val="e3e7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fo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4114800"/>
            <a:ext cx="1523880" cy="1676520"/>
          </a:xfrm>
          <a:prstGeom prst="irregularSeal1">
            <a:avLst/>
          </a:prstGeom>
          <a:solidFill>
            <a:srgbClr val="e3e7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i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each of these on your stars. Make your stars look just like th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The three branches of government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aramond"/>
              </a:rPr>
              <a:t>Executive- President, Vice President, Cabinet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Judicial- Supreme Court System,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Legislative- Senate, House of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branches each have 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Executiv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: enforces laws, makes sure people obey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Judicial: reviews and explains the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aramond"/>
              </a:rPr>
              <a:t>Legislativ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: makes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Post-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ame the three branches of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ich branch makes law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ich branch makes sure people obey the la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ich branch reviews and explains the la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3809880"/>
            <a:ext cx="5410440" cy="2362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95280" y="838080"/>
            <a:ext cx="62485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The Executiv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Bran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76212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</a:rPr>
              <a:t>The President of The United States is the head of the Executive Bra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895480" cy="4164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523880"/>
            <a:ext cx="6248520" cy="38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Agriculture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the Inter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Commerce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Edu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Health and Human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Homeland Secu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Housing and Urban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Transpor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 Secretary of Veterans' Affai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8600"/>
            <a:ext cx="8534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ecutive Branch also includes the Vice President and other officials, such as members of the cabi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1600200"/>
            <a:ext cx="4343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State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Lab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the Treasury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Defense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Attorney Gen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638680" y="4038480"/>
            <a:ext cx="2629080" cy="257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533520"/>
            <a:ext cx="870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The executive branch enforces the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This branch makes sure that the laws are being obe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02920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81080" y="685800"/>
            <a:ext cx="5410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The Judici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Bran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429000" cy="358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523880"/>
            <a:ext cx="3886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Garamond"/>
              </a:rPr>
              <a:t>The United States Supreme Court is the head of the Judicial Bra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3790800" cy="4143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38280" y="2943360"/>
            <a:ext cx="6858000" cy="3914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9080" y="193680"/>
            <a:ext cx="8702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Garamond"/>
              </a:rPr>
              <a:t>The judicial branch is in charge of the court system of the United St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Garamond"/>
              </a:rPr>
              <a:t>The judicial branch reviews and explains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Garamond"/>
              </a:rPr>
              <a:t>Rules on whether something is unconstitutional or constitu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Garamond"/>
              </a:rPr>
              <a:t>And who makes up the court syst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8:49:49Z</dcterms:created>
  <dc:creator>Don</dc:creator>
  <dc:description/>
  <dc:language>en-US</dc:language>
  <cp:lastModifiedBy>Don</cp:lastModifiedBy>
  <dcterms:modified xsi:type="dcterms:W3CDTF">2008-12-20T03:55:21Z</dcterms:modified>
  <cp:revision>18</cp:revision>
  <dc:subject/>
  <dc:title>The United States Government</dc:title>
</cp:coreProperties>
</file>